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1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79DE-5209-4151-AA4F-CED6B8B2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8CCE-4407-41F8-8E4E-8E86D5B6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BBD-0FB4-4A06-A851-9AC0CAEB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1470-0D26-4B41-A59A-A815EC2E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25FB-BB17-47BC-A46D-B0ED9135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768-929E-4A35-BAFD-71A81080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B464-01A3-44C3-BAD9-B2F3F6B0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8AC2-0D40-401D-AA15-CB986CD1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B9EE-C7A0-475A-A98A-E8DC75D9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4DE1-5DE8-40D4-9DD3-D956C414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76F2-774C-49AE-A00E-4CABEDF9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5BBC-6149-43CE-A34B-F2C5EA88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3093-F7D9-4C41-996A-6EE932A68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r fahren in die Schwe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Kell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Geles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Germany_flag"/>
          <p:cNvPicPr/>
          <p:nvPr/>
        </p:nvPicPr>
        <p:blipFill>
          <a:blip r:embed="rId1"/>
          <a:stretch/>
        </p:blipFill>
        <p:spPr>
          <a:xfrm>
            <a:off x="2895480" y="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ne Reise Koste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941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$3169.7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Family\AppData\Local\Microsoft\Windows\Temporary Internet Files\Content.IE5\O52249A1\MC900432566[1].png"/>
          <p:cNvPicPr/>
          <p:nvPr/>
        </p:nvPicPr>
        <p:blipFill>
          <a:blip r:embed="rId1"/>
          <a:stretch/>
        </p:blipFill>
        <p:spPr>
          <a:xfrm>
            <a:off x="7086600" y="4419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Program Files (x86)\Microsoft Office\MEDIA\CAGCAT10\j0222015.wmf"/>
          <p:cNvPicPr/>
          <p:nvPr/>
        </p:nvPicPr>
        <p:blipFill>
          <a:blip r:embed="rId2"/>
          <a:stretch/>
        </p:blipFill>
        <p:spPr>
          <a:xfrm>
            <a:off x="304920" y="4460760"/>
            <a:ext cx="1779480" cy="1787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Family\AppData\Local\Microsoft\Windows\Temporary Internet Files\Content.IE5\9LLWIZN1\MC900389882[1].wmf"/>
          <p:cNvPicPr/>
          <p:nvPr/>
        </p:nvPicPr>
        <p:blipFill>
          <a:blip r:embed="rId3"/>
          <a:stretch/>
        </p:blipFill>
        <p:spPr>
          <a:xfrm>
            <a:off x="533520" y="1828800"/>
            <a:ext cx="18097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Ich gehe in die Schweiz mit dem Flugze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rcRect l="0" t="16837" r="41670" b="73067"/>
          <a:stretch/>
        </p:blipFill>
        <p:spPr>
          <a:xfrm>
            <a:off x="2514600" y="1600200"/>
            <a:ext cx="4800600" cy="1219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2"/>
          <a:srcRect l="11874" t="36365" r="40002" b="33335"/>
          <a:stretch/>
        </p:blipFill>
        <p:spPr>
          <a:xfrm>
            <a:off x="2438280" y="2819520"/>
            <a:ext cx="5029200" cy="2361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C:\Users\Family\AppData\Local\Microsoft\Windows\Temporary Internet Files\Content.IE5\9LLWIZN1\MC900389882[1].wmf"/>
          <p:cNvPicPr/>
          <p:nvPr/>
        </p:nvPicPr>
        <p:blipFill>
          <a:blip r:embed="rId3"/>
          <a:stretch/>
        </p:blipFill>
        <p:spPr>
          <a:xfrm>
            <a:off x="457200" y="5214960"/>
            <a:ext cx="1809720" cy="1266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C:\Program Files (x86)\Microsoft Office\MEDIA\CAGCAT10\j0293234.wmf"/>
          <p:cNvPicPr/>
          <p:nvPr/>
        </p:nvPicPr>
        <p:blipFill>
          <a:blip r:embed="rId4"/>
          <a:stretch/>
        </p:blipFill>
        <p:spPr>
          <a:xfrm>
            <a:off x="7467480" y="1447920"/>
            <a:ext cx="156528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Ich fahre nach Bern mit der Bahn von Züri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rcRect l="0" t="33674" r="0" b="44442"/>
          <a:stretch/>
        </p:blipFill>
        <p:spPr>
          <a:xfrm>
            <a:off x="457200" y="2514600"/>
            <a:ext cx="8229600" cy="2362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Users\Family\AppData\Local\Microsoft\Windows\Temporary Internet Files\Content.IE5\B9T8ELG8\MC900237763[1].wmf"/>
          <p:cNvPicPr/>
          <p:nvPr/>
        </p:nvPicPr>
        <p:blipFill>
          <a:blip r:embed="rId2"/>
          <a:stretch/>
        </p:blipFill>
        <p:spPr>
          <a:xfrm>
            <a:off x="2438280" y="5038560"/>
            <a:ext cx="39085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ise Ka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rcRect l="29536" t="21644" r="0" b="6212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Ben_Brown_Bern_2009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r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152280" y="1371600"/>
            <a:ext cx="8839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ern wir skilauf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 gehen in die Paul Klee Muse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 gehen durch die Rosen Gar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h laufe neben die A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schlafe in das Hotel in Ber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rcRect l="65491" t="38479" r="4975" b="13428"/>
          <a:stretch/>
        </p:blipFill>
        <p:spPr>
          <a:xfrm>
            <a:off x="3902040" y="2332080"/>
            <a:ext cx="526752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457200" y="167652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Hotel hat der Whirlp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Hotel hat das restaur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Hotel hat ein Fitnessra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http://www.destination360.com/europe/switzerland/berne/hotel-allegro-bern.jpg"/>
          <p:cNvPicPr/>
          <p:nvPr/>
        </p:nvPicPr>
        <p:blipFill>
          <a:blip r:embed="rId2"/>
          <a:stretch/>
        </p:blipFill>
        <p:spPr>
          <a:xfrm>
            <a:off x="-25560" y="4229280"/>
            <a:ext cx="395316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ch fahre nach Zurich von Bern mit der Bah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rcRect l="0" t="26937" r="30557" b="64646"/>
          <a:stretch/>
        </p:blipFill>
        <p:spPr>
          <a:xfrm>
            <a:off x="1676520" y="2666880"/>
            <a:ext cx="5715000" cy="1371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Family\AppData\Local\Microsoft\Windows\Temporary Internet Files\Content.IE5\B9T8ELG8\MC900237763[1].wmf"/>
          <p:cNvPicPr/>
          <p:nvPr/>
        </p:nvPicPr>
        <p:blipFill>
          <a:blip r:embed="rId2"/>
          <a:stretch/>
        </p:blipFill>
        <p:spPr>
          <a:xfrm>
            <a:off x="2514600" y="4522680"/>
            <a:ext cx="39085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Zurich Marriott Hotel Exterior"/>
          <p:cNvPicPr/>
          <p:nvPr/>
        </p:nvPicPr>
        <p:blipFill>
          <a:blip r:embed="rId1"/>
          <a:stretch/>
        </p:blipFill>
        <p:spPr>
          <a:xfrm>
            <a:off x="0" y="3103560"/>
            <a:ext cx="3276720" cy="3746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urich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Hotel hat ein Parkplat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Hotel hat ein Fitnessra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Hotel eine Sa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2"/>
          <a:srcRect l="35321" t="20437" r="25943" b="44840"/>
          <a:stretch/>
        </p:blipFill>
        <p:spPr>
          <a:xfrm>
            <a:off x="3276720" y="3276720"/>
            <a:ext cx="6373800" cy="3213000"/>
          </a:xfrm>
          <a:prstGeom prst="rect">
            <a:avLst/>
          </a:prstGeom>
          <a:ln w="0">
            <a:noFill/>
          </a:ln>
        </p:spPr>
      </p:pic>
      <p:sp>
        <p:nvSpPr>
          <p:cNvPr id="68" name="Oval 1"/>
          <p:cNvSpPr/>
          <p:nvPr/>
        </p:nvSpPr>
        <p:spPr>
          <a:xfrm>
            <a:off x="3048120" y="3530520"/>
            <a:ext cx="236196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www.orangesmile.com/common/img_final_large/zurich_sightseeing.jpg"/>
          <p:cNvPicPr/>
          <p:nvPr/>
        </p:nvPicPr>
        <p:blipFill>
          <a:blip r:embed="rId1"/>
          <a:stretch/>
        </p:blipFill>
        <p:spPr>
          <a:xfrm>
            <a:off x="4651200" y="3505320"/>
            <a:ext cx="4572000" cy="34318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ur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ch fahre durch di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stad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gehe in die Grossmun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gehe den Limmat ent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kaufe fur die Klamot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7:29:12Z</dcterms:created>
  <dc:creator>CUSD220</dc:creator>
  <dc:description/>
  <dc:language>en-US</dc:language>
  <cp:lastModifiedBy>CUSD220</cp:lastModifiedBy>
  <dcterms:modified xsi:type="dcterms:W3CDTF">2012-01-09T13:12:53Z</dcterms:modified>
  <cp:revision>20</cp:revision>
  <dc:subject/>
  <dc:title>Trip to Germany</dc:title>
</cp:coreProperties>
</file>